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1730-9B31-460B-A7DF-A414A4149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B65F-6ED2-4B4E-AE1C-C2C921501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DFC9-4250-4D1F-9C8F-7A54DA6D8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8096-4F08-4985-AC05-D5A92E73E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E595F-34B2-4B9E-A067-56EE2422E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47A29-FDE2-4496-8182-652CF56B7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0B56C-C0CD-4EE6-AC85-1692886A1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060C6-92CF-47DF-9C3F-A8FE335F9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27EA5-A963-4B4E-A90F-EE1FECD37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285C8-E5C7-42DA-9656-8B4D3653F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18D4C-2AD6-4E0E-ACA7-A875B7E89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4854-328E-47B7-ADD7-A8ED9606D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D2EAB-F668-42DD-93A9-B97505170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787F2-60E4-48C1-AD49-0D5597767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6721F-9479-4B0B-AA23-29F245803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B45D3-931F-427B-8691-C7D8105A4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E8712-9C0A-4BD2-9477-4F2C0A303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DB46-45C0-4EC4-9AF7-5B3CDEA79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DC33-4ABA-4989-9A27-704FD4AA3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0170-F385-4EF1-8467-6EACBF387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CC60-AF49-43E1-8EC0-D54D07ED1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B8BB-E8E2-4DC5-9E1C-4053322FB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8446-2A8C-474A-A71C-74899DB53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83F1-008E-40D8-B841-86B4AF0A0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87A79-BEB6-442B-9B63-BD50B508D26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297FE-6D63-4419-8A16-807569F464D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7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장 행동관리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645000"/>
            <a:ext cx="64008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고전행동주의와 신행동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과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-S (ABC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수정의 관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거 또는 증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성취동기 향상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상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칭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흥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동기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효능감과 귀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행동수정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한 행동의 증가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토큰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할머니 법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emark Principl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계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하지 못한 행동의 감소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소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대책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학급관리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의 물리적 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조 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좌석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생활 규칙 제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질문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?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979640" y="1844640"/>
            <a:ext cx="47530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0T03:46:38Z</dcterms:created>
  <dc:creator>.</dc:creator>
  <dc:description/>
  <dc:language>en-US</dc:language>
  <cp:lastModifiedBy>f</cp:lastModifiedBy>
  <dcterms:modified xsi:type="dcterms:W3CDTF">2007-05-02T01:29:10Z</dcterms:modified>
  <cp:revision>9</cp:revision>
  <dc:subject/>
  <dc:title>제 7장 체육교육과정</dc:title>
</cp:coreProperties>
</file>